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D96E-05DF-4F99-8283-6C05F75B2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CD3A-91C6-48DA-AE45-ECAE58DF38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36CE-DDA8-44B8-9D22-7C209422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807-DF5C-4D23-BC10-CAD8D6EC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DFC6-19A5-4133-AD66-BC04FCB3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5839-65B0-44AD-AA8B-E24AF5E0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7389-9908-40D3-948E-82237B8A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3FB3-FF4F-4D67-870C-316D4920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84CF-2F5A-49B3-9B26-35845CAD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6C82-C6D5-4631-91C2-E0FD24E9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7699-1E4E-4B85-B8B2-EF0BCD44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C6AF-306F-4398-B8C1-B435B60C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2B4A-807D-4DE2-8740-AF3AB296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37A-BB61-476B-B101-4CC70B11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BC44-24F0-4C5C-8658-6021FD59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4EAC-24F5-430B-A358-293C9583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0965-F008-437F-9F31-16746AE0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2006-9CF0-416F-B437-71F280D5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3BFC-D0BD-4DA1-8B8D-E2555FDF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646-17ED-41CE-8645-9B49E8D3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3A20-08F2-4847-86BE-5656CDD1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C0E2-C23B-4B24-A1D8-3B59D2A9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1A4-265D-4465-9FEA-0B341DFC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8548-D13C-4D66-B820-6CEDF9B4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82D7-4167-4FED-9244-7A3CB446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833C-1487-462D-AB71-0B052DD7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A59F-C673-4DCC-8B2B-07B14E329A5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1C00-A0C5-453A-8A45-4D49107B4BC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ield Trip!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ck up all of your materials and let’s head to the Curriculum Materials Center (ED 194) in the older education building.  It is located around the left-hand side of Einstein’s Bros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1"/>
          <a:stretch/>
        </p:blipFill>
        <p:spPr>
          <a:xfrm>
            <a:off x="2057400" y="3098880"/>
            <a:ext cx="5403960" cy="2997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cp:lastPrinted>2017-02-08T18:11:56Z</cp:lastPrinted>
  <dcterms:modified xsi:type="dcterms:W3CDTF">2017-02-09T09:17:58Z</dcterms:modified>
  <cp:revision>409</cp:revision>
  <dc:subject/>
  <dc:title>Slide 1</dc:title>
</cp:coreProperties>
</file>